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E7F-1554-4E43-A948-4E65034A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129-0585-4567-97CD-C0EA516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3B868-F835-422F-875C-E2A1823E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18F49-0BB1-44BA-AFB3-DFB32CF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8974-1BF7-4E19-B12B-5F1B4E9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5A3E-5D54-4749-A18B-4DBEE224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1B08E-8015-4E1A-81B1-7E36D00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0D347-D1B7-4890-95DD-6FC684F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0EC9B-C989-4BAE-AE24-F557E9B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42791-D2EB-44F7-9A88-E41FE2AE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C08C3-72C7-49C0-93F3-6F16C9C8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9DFC7-4743-4287-8079-2AF93AB6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78A-0D40-46BA-831B-996BF9ED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A6FD5-452C-4CDE-B671-48D8562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F5191-3593-488C-AF32-F0C6AD8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BF20C-B46D-4932-9AA6-92DB385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59BB3-69DB-4FB0-8A75-4460ED0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47560-CADE-4887-928A-829CBEC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EE0B3-41CE-4D63-9913-E639933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62790-B1CB-4FB2-8915-D211DF2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DD1E2-B1E4-425B-8E66-1A0C8F7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41371-41AD-4A59-A9B5-F388226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2B26B-4320-48E6-9EE2-EA94D5D3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C8F-CA48-4FE5-90DA-FAD844E5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C0FF-8291-4F85-BA5F-DA2D08EC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F54DB-ABD2-4E24-8897-86C0B335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59E7-74F3-43EC-8F16-DE84DFF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7EF5C-F86A-4617-86D3-F34477E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11C0-E6A7-47A0-A47E-129A222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D0931-8A3C-4136-975D-E45B8E78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D41CF-F480-421C-BBD6-A2A1BA0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8F0AB-F76B-4682-8769-C6EA489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3BC0C-1D26-4CFD-B829-7691DE9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DE7F-7F68-4090-BB21-68A96DF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A04E-7B69-4613-9D3E-20981087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693E-CBCB-4CA7-9F8A-A0E7ECF1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F3A3-8261-4AA6-A08A-010EEA88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20C4-E73A-4E78-A392-DB5E6FD2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3266B-AAAA-4680-8702-6F5B6249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E2A67-DF03-4D84-BA55-21D9C07D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8EDF-14B2-4752-83BB-7C86B05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6E72D-7855-45A1-A763-B540D81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D3F9A-C7BE-4E5D-BA93-98C5E96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E541-A657-4F89-BE82-2BFD12CD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4D007-5B94-4FD9-A40D-44DFA53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4B3-9F4C-4632-AC07-CF33393C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6A062-EB18-4C26-88D3-16A5F59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BCAAE-B1FA-4097-96F0-D886509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ED4BF-33CA-408D-85AF-BD93935E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A4A65-38F1-4BE6-A83F-ED2DAD0C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F26A3-860D-4431-9B89-B0C41B7C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D9963-501A-45F9-9D0E-2F374E8F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A9128-F4A4-4A20-9B59-F010E42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C2CD8-4BA2-4CF6-8046-2090A90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84DA3-D859-40B2-AA92-10B507C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95148-288D-4E73-863F-F20395E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480-8DA2-4BD9-B7ED-EAF8BDA5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DAFF7-5471-4F6B-8471-CB1E76C5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E5537-7489-4A55-AAE5-C17EB3F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EC5D1-7833-4B63-8866-AFA1EC1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F74A4-8419-4B87-AD7E-04FBF79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26213-06B5-41DC-9F1A-6B7025FD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F496B-BFBE-4B7E-AE17-003FF059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7A882-B804-42ED-AEE0-9AF94AFB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52A0D-6E86-4CEA-95B2-69D827D2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56C53-ED75-4003-9492-9B0FFA1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7A5D3-2257-4D7D-B9D1-4387259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F04B-398E-44B9-8399-48C15B98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A32CF-7069-4A2A-B327-E81E7477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F5B6E-8FFE-4BFF-B999-D4E923F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13853-01A8-4778-A8E9-4F40F9C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EE7F7-8022-48B3-8BBC-176FBAB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F7730-E918-4B34-9B55-6044EE6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CF01E-3021-4577-AB0C-031E2CC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89BCA-4A9C-49B2-9917-7F25C0B5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B48D8-98F5-41D4-9A5A-34472F6F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687A6-8AF2-4969-8841-46E43F8E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83C6A-29FD-4790-B9CF-FF8592EE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089-EA37-42E9-A9E2-1C19AA57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EC0F7-2F32-46C9-A0A4-F5558F6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CDD4A-CD0F-46FD-9D0A-8F40D5A8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2C0F8-C41F-4427-859D-BF81DE4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8CF4B-835C-4A24-ADEA-42DB6D2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BA4EB-33CD-4667-BA59-3C8CD205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2AC33-FF23-4C23-8B8F-755D25E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75C7F-53F3-4FCA-9688-AA5EDC6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0F4AA-83FA-48B2-9044-17B842A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FA16F-1C64-432E-96B5-A1573C5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6895B-C66A-4701-9322-2DA966BF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0710-03B5-42C7-9CD8-B2F7F867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ABF41-F6D4-45BE-941F-CC2746A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07103-0E34-40FA-85E5-4E572ADB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48AEE-127B-4A77-8996-9C787F7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68BD1-95FA-4CCD-88F9-A6872A9A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9D285-82A0-4334-BF39-8AA4D502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F3513-D708-4386-AFBE-E58BE23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68D2E-4046-4B81-BCE8-3B82A65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ACB99-6C74-4E15-B2E7-B31659A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F7E92-A421-4114-AB69-A8E70A5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6DF06-F2E1-444D-948A-ADEEEE23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56E-E368-4F95-8B8A-02E138D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960C6-7880-45C8-9BF7-DC68ADB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613F7-DD2B-41B7-8FCC-BA096818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8258D-98CD-4FC5-BDFD-AB2CCFF6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2EEE7-B99F-4630-B218-E688989D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9BFDC-194D-42BC-87D0-E77045A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FBC8B-6C4C-4BA3-BA64-09B95516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76DC9-FC99-4627-851A-5F507D0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5179D-E998-471F-A26B-004BA54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266AE-8BAC-4D50-8CD2-914D48BD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A6573-5BF3-4B79-8F42-F2D196E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FC6-127E-4085-8871-F929F30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2F7-6BC6-4089-919A-46C5268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32E75-F6D0-4D77-9926-075FB220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E13C9-729C-4B05-88B3-D9A31C8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82C13-0DCF-4704-A8F6-4F74626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96434-8D8F-48B2-B544-46B8A89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51FC2-A89F-472C-AFC4-3EFCF362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705D9-071B-432F-8462-E98BE0E2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C2962-960B-4D79-A9C4-62F6257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CD29B-F7CB-45EC-841E-1C9FE38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C3DF9-2357-4B33-A623-F0ACDE3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6B06D-5815-4AB2-AD15-519DED74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669F-9505-4B68-8D40-9A1853F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F9F59-E5D9-4E9A-8FD8-C23A2B5A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56AF2-9CDA-4A5B-8F89-B67FA1C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7A67E-6203-4C31-A10F-0BC229F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21713-F148-41DB-9B2A-6A52919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BD7D1-7EC7-4E8E-A476-0AED97D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8D0FB-A053-43C6-B4A2-466E15D8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D3CA6-2927-43DC-8B63-17BFE244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78C59-BFAF-4465-96A8-E388DEC9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48396-834E-4CEC-BD6D-CB78C3B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8EA24A-31A4-464D-AD77-95374E8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D49-7824-43DB-A6D5-C8EF8A01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1B32A-FCDA-4B1C-82D9-D405005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F0AF3-C703-49CB-91D3-6B63F44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D317E-73D5-42A7-8DFF-1A43DA45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E4E71-018E-44EF-95CD-874BC6F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AA4C6-5E55-4AE8-915B-E780484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2F6A4-3E86-449E-9C82-E568B29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1650F-E769-459F-8184-EB3D0CCE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19E72-4BD7-4A5E-8B46-898D3492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63E9B-4BFD-4E41-BE0E-0504492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EC636-5EA1-43CA-92ED-CD4F7D1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7A37-3D9F-43EB-9862-DAC81B2D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306DD-C1D0-4230-9F25-C8E19BD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49106-3A4F-4E00-8354-E33DBF1D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BA482-BCF6-47EE-BE67-D60361FA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99929-290D-47C6-91F7-4E338AD9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AFC70-EA40-4647-9DDB-B9423C8A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3E9BA-9E1D-4B4D-9CD6-05E5C035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143D5-B622-474B-8826-8692060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0329F-1990-4EF5-ACC4-DBE2940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5424C-3B61-43E2-98DD-A66D8DD3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94EAC-B98F-4A9E-9168-FEAA6D55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6DE6-6DCF-4A8A-92DA-DA4ACD2D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A0076-3579-4B75-B82E-3D66230D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A7D76-74F7-4963-9113-6F29704B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46877-C0FD-48E4-9548-22F909AD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5449F-E158-4743-A14A-DCB8851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264D2-7BBB-462A-AD6F-8697710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C625C-9653-45AF-885C-DA52298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CF35D-BB15-4895-B73E-E719287A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08E5B-0AAD-44C4-AE41-4D6B82C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3314E-8A65-4A0B-8950-0DEA634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26754-65F2-4C65-9CFA-626926AA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DECA-FA5D-4A95-A9EF-AD78DDFF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DA035-3BD7-48DA-A8DC-FF734E3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2A3038-E110-4F1D-B675-3D549E8C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1BF3F-0E8F-4868-A9F2-E7C653F8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5F50-13E9-4731-8133-9D1E5711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B513-C3D0-4B2D-9378-A19C8E68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473E-FA18-4086-B9D0-C4EA5E5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8251-1381-4D76-8334-1B86849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895-ED97-48CE-9458-90585A5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3C62-A460-4E4B-9403-C62A9A2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ED4E-E8E2-4733-9C1F-601F002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AB48-4E22-4D64-B158-A4FF767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E119-A20A-4EDD-BB28-5862AFF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7150-FBCE-4213-BA7E-B4BDF71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65B0-86B5-4424-ADAF-6779EF2F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B3C6-1D21-42AC-8213-D1A10EA5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C729-BFE1-4EA8-AAFC-49E169B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7333-85A2-4705-B97C-F047F0B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86EF-34CA-4895-BEFE-9F247DE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0F0-60C9-41FD-B8F1-F0C6B24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F629-C3B1-42AA-9254-9CF343D8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A730-3462-473E-B9FA-C30ABAD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08AC-5A0B-499D-958C-6618CFC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08DC-15DF-4E9E-87A5-396EAFB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1041-18F4-48AA-9465-E5FF3EB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DED5-FAD3-426C-8067-18C5A56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DEA5-DCFC-40FC-B9D3-398676B7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9A98-6789-4580-8BED-CB46698B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B68B-5547-4EB1-8654-5FACAAEB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B13F-E77F-4A7F-BA91-0F8A5DE6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F68-034A-4748-9B43-AE50F27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B3BA-C1B3-430C-AC0D-ABCBF85C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EC4B-33EE-410E-98B7-D6519F9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8107-FAA1-4D12-A191-3A6B713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1BB6-DF4E-42F6-90AE-1A5BCA5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2F57-1070-4CFE-ACFD-2D4B37CC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3EA4-150B-4EF5-943B-A896D1F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9D64-08F4-4D5C-ACFA-55F08B3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8DAF-BC76-4AAD-95FA-573D064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0C86-0DE6-4BE2-A19D-2E340D7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B3D7-B084-4870-8B65-790FA6EE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2CC-FC00-4A47-A9D6-9C9CF4F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26EA-C413-4D05-AB6A-F0A93594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32D8-EE38-436B-9EBA-1E5043D4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0537-A926-4BA3-87FE-F2C1BCC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BD69-CD82-4773-89D5-2CF3B72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E9BA-DB7A-4039-AA0A-1E6A5DA1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20492-ACFE-4E56-BB34-4B7133DE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FF03-5D65-4E99-B4D2-40467B6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E4599-65B0-4CBF-835F-27A8499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3E3A-61B0-4A98-86DC-EDEFE1A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D676-E288-400A-BAFE-081E791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249-4E3E-4E26-B78A-86366ACF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FFA2F-AD04-4C49-89BB-D92B6CFA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74A8-7075-48B1-8503-00F70BEC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8F63-249C-4C77-989A-2833C177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8E5E2-7046-4B4B-AFBD-B7D4A93F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421E-57FF-468C-B843-E30153F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DF4D-C49E-48E8-875B-3068F279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77D8-AB7F-435D-ACDE-C7E134F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D962-D58C-4DDF-BBEF-9F6348C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E954B-C027-4C2B-94BC-0749C0D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B3F1-7A84-4319-88F4-3365A58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B67-BD12-4525-86D1-55CDB14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393E-3C61-421E-A5F8-8C60FFA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11414-6489-4164-ABA2-AD5BEC9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68ED-9292-4E8C-A2A1-82868ED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68468-A03A-4F4A-B73F-9E016B97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341E-C964-4D80-A449-8694D56E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C2FC-AA83-47D2-AA8D-4B83388A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55992-BFC7-43C9-A20C-29179F8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EBA58-83D9-4367-8B3E-40E7A35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B49C9-B511-4D29-82E1-91237B42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ED95B-CAC4-45F1-B7ED-E0A3ED0A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BDD-19BC-4988-98A9-1915134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B139-545C-4B40-9A5D-7A10D8BE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7651C-1798-4BE8-837B-C5F37D9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45EAE-7434-4404-ABDD-D5DF883B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230E-3AC3-4751-B26B-3C9F822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DF46-3CE2-4332-9191-2A78F6B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CA81-6E97-4F68-A598-1D26967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1A40-3D12-4F2D-9609-2FC2B442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5945B-283C-488C-ACFC-F6624E5A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1A69D-F01E-4271-8EC5-02106799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97DD-49D0-49DA-8C6C-2164570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11C-D20E-473A-9B27-22F8E45D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A86-CE1B-4090-9190-5EB110531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1803-58CC-43E2-87BD-E027E00619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997-5A5E-4CE7-97AA-66FCE17FE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AD1B-C581-4254-95F3-071879E66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99A3-D76E-44AB-A719-446D4C168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8331-AA95-4F04-A88F-55195FD63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856-1D4B-42E9-80A2-792A0CAF34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AAE9-5149-4115-B44D-70E1D87FA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115-CB59-4405-8E2A-376806312A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08C-E17E-43AB-B578-C8CDDD023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6C4A-E79E-4EA9-A75F-10B72F4E7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C88D-6CD9-40BD-948C-9C8C0FBE8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0A49-0F14-467A-AC8A-183E74E00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043-FECE-42EB-912A-AAD77F8B5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BAD-B14B-4329-9EFC-E243244D2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0F0-BF63-4E69-8A56-614715D67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ED3-279B-4C45-B000-6004E09CD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5FE-1FEE-48C9-A253-4DAB8297C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B05-B42B-4698-B503-58FA4A673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962-17AC-438E-A5FB-50DFF87FB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8C17-1875-45E6-8F21-768626D3C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CD1-71EF-4415-9984-39FBE1C58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3DF0-03B1-4ECF-9FE8-63B45FF07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410-94E4-4E05-AFD6-3806BD61C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140F-C17C-4F34-BB98-A458BEBDC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B768-AC43-4B48-83FF-09E88064D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4F8-C9A9-4E87-9601-7B37B88B4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990-3CC5-4B26-A1C4-3E16681CB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79E7-58BA-460D-A5E0-F8CEAED03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A25-FA7A-4A45-990C-5173792F9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52B-F378-45B3-92DF-A9B6159D1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A300-0450-4DCB-AED9-DC7A77019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4F1-59AB-4C57-8C49-8764448C8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DA1A-AFAA-44C5-B34A-474959793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B790-D40E-46EE-AE9B-70C0E0C900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0EA-4DF2-4B11-97FF-B09D8B912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BF73-7E18-4229-B6C2-6D71ADFCF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8FB-8A66-4BD6-8EE2-B183284F3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65C-1441-4A89-8FE4-8F8B64737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62000" y="2995560"/>
            <a:ext cx="7020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7791480" cy="6053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428840" y="1357200"/>
            <a:ext cx="69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81040" y="1076400"/>
            <a:ext cx="7981920" cy="4705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2843280" y="5229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6804000" y="5300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86520" cy="5657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3049560" y="3351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3"/>
          <a:stretch/>
        </p:blipFill>
        <p:spPr>
          <a:xfrm>
            <a:off x="7093080" y="335772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4"/>
          <a:stretch/>
        </p:blipFill>
        <p:spPr>
          <a:xfrm>
            <a:off x="1940040" y="515772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3" descr=""/>
          <p:cNvPicPr/>
          <p:nvPr/>
        </p:nvPicPr>
        <p:blipFill>
          <a:blip r:embed="rId1"/>
          <a:stretch/>
        </p:blipFill>
        <p:spPr>
          <a:xfrm>
            <a:off x="1550880" y="5500800"/>
            <a:ext cx="6307200" cy="1334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1500120" y="853920"/>
            <a:ext cx="5643720" cy="4461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471240" cy="438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1835280" y="40766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6"/>
          <a:stretch/>
        </p:blipFill>
        <p:spPr>
          <a:xfrm>
            <a:off x="1908000" y="5516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601040" cy="6056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3203640" y="4756320"/>
            <a:ext cx="525600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2411280" y="5548320"/>
            <a:ext cx="525636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2771640" y="6323040"/>
            <a:ext cx="525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85640" y="1133640"/>
            <a:ext cx="8172720" cy="4590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3978360" y="2478240"/>
            <a:ext cx="2190600" cy="8665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643040" y="4808520"/>
            <a:ext cx="21906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671400" y="995400"/>
            <a:ext cx="7801200" cy="5648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3225960" y="1000080"/>
            <a:ext cx="2190600" cy="8668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1309680" y="3857760"/>
            <a:ext cx="2190600" cy="8665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4"/>
          <a:stretch/>
        </p:blipFill>
        <p:spPr>
          <a:xfrm>
            <a:off x="2643120" y="5357880"/>
            <a:ext cx="21909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728640" y="2305080"/>
            <a:ext cx="7686720" cy="22478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2000160" y="2797200"/>
            <a:ext cx="21909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3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